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4F23-601E-48B4-BFC0-0766B3869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EE45-DE77-4DC3-9B3E-E0A78B9F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27C6-AB6A-40B4-A24F-1665557BC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1439-7379-4994-9E42-06A141F15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8257-C9B8-4AC3-A7D3-6844FF4F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0D01-A33D-46A1-BCFE-97D47BBB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D8C3-5436-449B-823C-559D5702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49BF-8F63-4D07-8522-EA0FD7F1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CD17-A00A-4629-A4E4-95A29002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3C27-3E3D-4B45-AE68-24822750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9708-5855-41E3-8624-4141FD84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6534-2CF7-4967-BBAF-E541AB52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98FE-D3B1-4937-92B9-AACBE4534E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wanda.williams\My Documents\My Pictures\Microsoft Clip Organizer\j032374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76440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2"/>
          <p:cNvSpPr/>
          <p:nvPr/>
        </p:nvSpPr>
        <p:spPr>
          <a:xfrm rot="16200000">
            <a:off x="4197960" y="2654640"/>
            <a:ext cx="4729320" cy="367668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a5a5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Ebenezer scroo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Darkness was cheap, and scrooge liked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R.i.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C:\Documents and Settings\wanda.williams\Local Settings\Temporary Internet Files\Content.IE5\LX2YN4OC\MCBD07752_0000[1]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 rot="16200000">
            <a:off x="5598000" y="3164400"/>
            <a:ext cx="3662640" cy="266724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a5a5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lies a humble Scroo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op Hallo Whoop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.I.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25:11Z</dcterms:created>
  <dc:creator>wanda.williams</dc:creator>
  <dc:description/>
  <dc:language>en-US</dc:language>
  <cp:lastModifiedBy>Ken Robinson</cp:lastModifiedBy>
  <dcterms:modified xsi:type="dcterms:W3CDTF">2011-12-02T12:41:17Z</dcterms:modified>
  <cp:revision>8</cp:revision>
  <dc:subject/>
  <dc:title>Slide 1</dc:title>
</cp:coreProperties>
</file>